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8DB5B-6105-41D5-8D3B-5970EC0BD8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8B0-71AE-473D-8F54-AAE274D8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659-D4EC-42E3-80D6-2753BA2D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E2C-9E74-401D-8C82-DD0BB0F9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DF0-8477-4D39-B933-DE6898C9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18DD-EFC7-4054-900B-578B3168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92B3-5A93-4121-8C5E-A076FE2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80C8-63F8-4914-A952-276DE48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3541-1954-48D5-BC29-23FB2364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8563-22DD-4E01-9D99-CF03BD0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796D-664A-4514-AAD0-46CE7E7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655-CB07-4373-B1D6-AF6B01B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8CD-18A5-453D-B997-4BEF5FA4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D7B9-E773-4F18-8290-9B4CF5EA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12F-30A8-4042-BC3B-251ACC3E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497-0724-4958-B498-B6C06671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C866-9494-4832-A538-9F459E3C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C4D2-01E7-4251-8ECB-96B6A9A8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BA8A-DC31-436A-8C02-FE27DBED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C295-A5B4-46E3-ABFB-6A32C06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C0A7-6013-4838-90AF-8C8ECFD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4517-F11F-46B6-9D3F-9B032A3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C78B-9E9C-4177-B4E2-268BB95E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276-7842-49AC-B676-BA647A6E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6907-EA19-4341-955C-976A737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43C4-72ED-41AE-8B6C-37824F6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F49E-B9FA-4CE2-9A27-BEFD405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5296-8A8D-4AF3-B242-BD08ED5E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0956-F5F2-45AB-8527-C9784CAD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5ED9-51D1-4A4F-AF35-53ED0659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FDB5-AC9A-4060-940D-FBB05D67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C756-3625-45F0-A880-D5FD8BBA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CBE1-EC85-41A5-B704-7A12672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C3D6-5C16-4987-8550-2572853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127-3E51-4B2E-9F1B-081CA3E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9EDC-491F-4718-81AD-93C156D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2CF63-E428-4B51-AEED-205B2189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1C6D-013D-4C8A-AF8A-D11C67D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6CA0-3015-4F4C-9F9D-4EFB5F7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B343-A52C-4476-8454-B1FEA1F4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4B84-0F5C-4A39-8C73-FB56FDBA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494F-9392-492E-B527-25D0F118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AC08-AC77-4379-AC18-BAECA5E6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FF8A-02B8-4FE1-8F44-3F09F02E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B86-ED0E-4BB3-9E61-0D7E5914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D76-F031-4C05-9B0D-904F7F3E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884-78B3-450D-B6FF-DF07BF5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941-4095-40D0-B630-D5E178D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096-FAC7-42D8-9E28-CBC3099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A99DF-EE93-450F-B65D-AC199ED820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7676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B249D-E496-4A76-BC30-0AD745FD9F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32EB4-F755-4939-A48C-4B1F0A7F9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7676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47E0-9FB9-4A73-A97E-4E5400FB4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360" y="87588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52080" y="3068280"/>
            <a:ext cx="839628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3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rd’s of a F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92360" y="5589720"/>
            <a:ext cx="62481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D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space pie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life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sh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rowser (webkit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collabor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gle doesn’t always welcome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: I haven’t signed their license agre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y sugges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e-linux wiki for non-Google sanctioned information and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n use existing Google lists, unless google people complain (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Questions and Discussion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280" y="364608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4664B-D55F-458D-AB36-1DBAA57D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- basic in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t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ollabo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Android – Basic Intro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979280" y="364608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66494-99E9-474B-988F-3A730807C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– Basic Intr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based OS mainly developed by Google, now deployed in mobile phones world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a new platform, not based on any existing Linux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+ Google stu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nic li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lvik JV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s libs gal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Hot or Not?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979280" y="364608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 interesting features of Android should we adopt as an embedded Linux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5A372-6871-446A-9730-10BB9E6C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nder – new IPC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ke locks – ability to hold the machine “awak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rns power management on it’s 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ault state of machine is off, and apps have to assert a lock to keep it aw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sp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footprint, custom-purpose, C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it’s own threading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upport for multi-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ve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lti-project source management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rapper for ‘git’ for 100 reposi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ild system (Android makefi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n’t build kernel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n’t keep patches sepa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-built toolch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b – Android Debug Bri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st/target control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evelop and test some applications prior to device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clipse inte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10-14T17:26:32Z</dcterms:modified>
  <cp:revision>5</cp:revision>
  <dc:subject/>
  <dc:title>スライド 1</dc:title>
</cp:coreProperties>
</file>